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F41C-2D5F-46C4-8588-7D1285A5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CC6C-FB90-471B-85DA-01EA4EF2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DFDC-B0B7-439C-BA59-331C3733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3D9D7-9F85-4191-9977-0BA14165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2257-C9A1-4C1D-9DD0-D62A2A3D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2133-862F-45DB-985F-C777A193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28DB-F34A-4AF9-8F1B-78856F0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5418-C79A-4AED-BE16-7906D32B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C4C3-D0C0-49E6-82C1-FAF20CAB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9BEC-EB92-494C-8ADA-A378786D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8FEE-9A03-4034-B648-E06EDED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6D33-4185-4E7E-A5F2-1EB1EBB0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F2F8-6D7C-4127-8CDE-053E877E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D737-159D-4B9B-85C8-1BE98CF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8869-38C0-4F56-9605-ACE14EC2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97B9-E758-47D2-BA21-D8B191CF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9D84-7064-4C28-94C3-99A199D5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D527-8133-4BFC-AC5F-E641989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C9EC-11E1-41BC-9375-F8BFFB84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F923-C6EC-441A-8C1D-D821FB35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3B7E5-1FCB-48DA-BE73-A2B1C180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9F58-B043-4145-B49A-ABDF3A13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C3B26-6EF8-4DD8-A7EA-81CAA956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0302-0378-45F4-B779-A5DCB3E8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CC62-FBEB-406E-8696-A6C28A05D8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D1E4-2B4D-48ED-A665-AC3AA86ED6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Articles of Confederation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rticles of Confederation needs to be chang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33:29Z</dcterms:created>
  <dc:creator>eric.musser</dc:creator>
  <dc:description/>
  <dc:language>en-US</dc:language>
  <cp:lastModifiedBy>eric.musser</cp:lastModifiedBy>
  <dcterms:modified xsi:type="dcterms:W3CDTF">2008-04-25T13:34:33Z</dcterms:modified>
  <cp:revision>2</cp:revision>
  <dc:subject/>
  <dc:title>The Articles of confederation </dc:title>
</cp:coreProperties>
</file>